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DD1-DD91-4D14-98C9-8D915F23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8A3-AEF0-47C2-AF5C-3FB992E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3D2-8C29-498F-9C0F-52630B86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AA6-F219-4BFD-8EE3-BB8D5BF9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4579-5477-43F1-BB96-E2CB14C1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4207-4313-4DAE-9906-753CACD1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30D4-B733-4542-BB34-07C77B50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FEFD-F1BC-4E4A-9351-B592AE62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6218-B05C-4D84-A3CB-32D8FF17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4507-E39C-41D7-A967-C1263160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B22-C267-433B-9B17-EF6195D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4DA-AA4B-4CA4-9195-7918AD6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276D-B084-4DD0-B094-2A6A914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3FF0-D19E-498F-9E52-27DD8C6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8833-8151-4732-A58D-539C848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70F5-9514-47CF-9DF2-3B033293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95B2-24F1-43D6-B0B0-853166ED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93B-453C-46CF-8785-84C17C5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141-9CBE-45E3-BAC2-6DDD8E34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68A-970F-43B7-BB63-0CD7E09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8DA-4D1C-49A6-BDBC-8E633953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17E-73D0-4B56-A8BF-092C6175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34D-8BDE-4A96-B4FF-7C9B7B3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AFC-DAB5-429B-AACB-DAA0A9B3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11BD-4696-4D99-AED4-57C376EE1E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1DA0-1C3D-4FBA-AFD3-D818A7B7C7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55840" y="281160"/>
            <a:ext cx="419580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moris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morilla burlad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o m’era mora Morai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lla de un bel ca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ristiano vino  a mi puert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itada, por m’engañ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óme en algarab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o aquél que la bien sab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Abrasme las puertas, mo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Alá te guarde de 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¿Cómo t’abriré, mezquin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no sé quién te será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soy el moro Mazo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ermano de la tu mad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un cristiano dejó muer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ras de mí venía el alcal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 no me abres tú, mi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70800" y="690480"/>
            <a:ext cx="286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í me verás matar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uando esto oí, cuitad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mencéme a levant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istiérame una almej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hallando mi br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fuérame para la puer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bríla de par en pa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0:35:07Z</dcterms:created>
  <dc:creator> </dc:creator>
  <dc:description/>
  <dc:language>en-US</dc:language>
  <cp:lastModifiedBy> </cp:lastModifiedBy>
  <dcterms:modified xsi:type="dcterms:W3CDTF">2007-09-28T01:07:52Z</dcterms:modified>
  <cp:revision>3</cp:revision>
  <dc:subject/>
  <dc:title>Diapositiva 1</dc:title>
</cp:coreProperties>
</file>